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55E-E739-44C4-B2A8-C1BAE08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7D5-E7E6-4117-AB5F-415A4264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93E-EEF3-4444-8CEA-FEC35C3A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51F-43CF-430E-BB57-B388BA2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DEF-F4C3-493C-89F8-4F9782E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26F-CF62-40FB-9764-D795B25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733-01E9-4B27-8A76-FF946BA8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2C7-EC5F-4600-9A72-892DBCE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4B0-03F4-42C5-855D-A55656C0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00F-6B72-44CE-AA41-92DB018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95-C847-4306-9B41-9D3D09F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B69-BDC0-43FD-AEC4-85889BD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6B8-0273-407E-A770-A3FD9ECCB81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314360"/>
            <a:ext cx="792000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9480" y="831960"/>
            <a:ext cx="46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. Double Click eGalaxSensorTester3.ex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sting Program will be auto-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1960" y="5868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241280"/>
            <a:ext cx="593424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1760" y="87480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K if the test result show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91960" y="5868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9:19:54Z</dcterms:created>
  <dc:creator>eiddyhuang</dc:creator>
  <dc:description/>
  <dc:language>en-US</dc:language>
  <cp:lastModifiedBy>eiddyhuang</cp:lastModifiedBy>
  <dcterms:modified xsi:type="dcterms:W3CDTF">2015-02-12T09:47:50Z</dcterms:modified>
  <cp:revision>4</cp:revision>
  <dc:subject/>
  <dc:title>投影片 1</dc:title>
</cp:coreProperties>
</file>